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77459-B180-4E85-B991-6F07172E4F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C8014-A145-4354-B479-6AB3ED17B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D5508-B99A-4481-BC3A-DDD5D2F399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85B4B-31D5-41F0-B883-C9BA89FD6D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F5A83A-D639-4A9E-951A-871506D1E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7BCB94-FD7A-46D4-A8D1-8018D5721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1A8DE-A0AE-49A6-979B-5CD4D535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832B3-5459-4D5F-AF76-36F812650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3DA8F-AF58-4B13-9382-DE6EC8B1B3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7D0CC1-119E-42D1-824B-F70ABAAEE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E53141-2784-47CD-A36B-0B78EFCB2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7BE3F-B66E-4B93-8E58-1DF428926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59AEE5-C425-49A3-871D-A8E7812D1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865F7-AE52-4E12-A707-40360EAD7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1427C-1AB4-4F3A-894E-6BDE4F340C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B2AC98-CEC3-4046-8583-E6D353CFD5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AEB3A-B23B-4886-B575-98144EAD4B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E66C3-825C-4E37-ACE0-49314E0C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B3E7B-098F-4EC2-B152-43191AE0E0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C4A41-A98B-4928-ADA3-ABF239AAF6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DED32-05CC-4E02-B145-1DAB763082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702C-D28C-42A1-972A-8F0C8AF11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D3017-0364-46DF-8300-A13A9127EC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59DF2-AD40-4A05-B979-546534F2A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C02875-7303-4749-AEA6-2573B21C961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556E2-55E5-4D42-8D6E-9A6FB297864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8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8016"/>
          <a:stretch/>
        </p:blipFill>
        <p:spPr>
          <a:xfrm>
            <a:off x="3610080" y="147600"/>
            <a:ext cx="5533920" cy="663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Link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headers and tail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ink control protocols not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of multiplexed lin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one channel receiver can not receive data, the others must carry 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corresponding source must be quenc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leaves empty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s are detected and handled by individual channel syste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Link Control on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16412"/>
          <a:stretch/>
        </p:blipFill>
        <p:spPr>
          <a:xfrm>
            <a:off x="228600" y="1373040"/>
            <a:ext cx="8915400" cy="545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lag or SYNC characters bracketing TDM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st provide synchronizing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ed digit fra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control bit added to each TDM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97280" indent="-21924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oks like another channel - “control channel”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able bit pattern used on control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alternating 01010101…unlikely on a data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ompare incoming bit patterns on each channel with sync patter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Stuff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- Synchronizing data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s in different sources drif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s from different sources not related by simple rational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lution - Pulse Stuff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utgoing data rate (excluding framing bits) higher than sum of incoming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 extra dummy bits or pulses into each incoming signal until it matches loc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uffed pulses inserted at fixed locations in frame and removed at demultiplex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DM of Analog and Digital Sour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rcRect l="0" t="0" r="0" b="11537"/>
          <a:stretch/>
        </p:blipFill>
        <p:spPr>
          <a:xfrm>
            <a:off x="990720" y="1362240"/>
            <a:ext cx="7238880" cy="549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T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A/Canada/Japan use 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TU-T use a similar (but different)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 system based on DS-1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s 24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has 8 bits per channel plus one framing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3 bits per fra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Carrier Syste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voice each channel contains one word of digitized data (PCM, 8000 samples per se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8000x193 = 1.54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ve out of six frames have 8 bit PCM samp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frame is 7 bit PCM word plus signaling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 bits form stream for each channel containing control and rout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f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channels of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85760" indent="-217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7 bits per frame plus indicator bit for data or systems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4th channel is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ixed Dat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S-1 can carry mixed voice and data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 channel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sync by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interleave DS-1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s-2 is four DS-1 giving 6.31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DN User Network Interf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DN allows multiplexing of devices over single ISDN li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interfa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mary ISDN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rcRect l="0" t="0" r="0" b="33455"/>
          <a:stretch/>
        </p:blipFill>
        <p:spPr>
          <a:xfrm>
            <a:off x="457200" y="2048040"/>
            <a:ext cx="8305920" cy="222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 exchanged between subscriber and NTE - Full Du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physical line for each dir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 coding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=no voltage, 0=positive or negative 750mV +/-10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access is two 64kbps B channels and one 16kbps D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gives 144kbps multiplexed over 192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maining capacity used for framing and syn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ISDN Interfac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channel is basic iser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CM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parate logical 64kbps connections o different destin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 channel used for control o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PD fram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frame 4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frame every 250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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me 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rcRect l="0" t="0" r="0" b="17539"/>
          <a:stretch/>
        </p:blipFill>
        <p:spPr>
          <a:xfrm>
            <a:off x="76320" y="1433520"/>
            <a:ext cx="8915400" cy="4389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to poi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ically supporting PB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.544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S DS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on T1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3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.048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European standa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 B plus one D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e coding is AMI usingHDB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mary ISDN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21432"/>
          <a:stretch/>
        </p:blipFill>
        <p:spPr>
          <a:xfrm>
            <a:off x="152280" y="1428840"/>
            <a:ext cx="8839440" cy="443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/SDH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Optical Network (ANS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ynchronous Digital Hierarchy (ITU-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ati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Hierarch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ous Transport Signal level 1 (STS-1) or Optical Carrier level 1 (OC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51.84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rry DS-3 or group of lower rate signals (DS1 DS1C DS2) plus ITU-T rates (e.g. 2.048Mbp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 STS-1 combined into STS-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TU-T lowest rate is 155.52Mbps (STM-1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14519"/>
          <a:stretch/>
        </p:blipFill>
        <p:spPr>
          <a:xfrm>
            <a:off x="533520" y="1447920"/>
            <a:ext cx="8001000" cy="5018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ONET STS-1 Overhead Oct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14655"/>
          <a:stretch/>
        </p:blipFill>
        <p:spPr>
          <a:xfrm>
            <a:off x="685800" y="1380960"/>
            <a:ext cx="7696080" cy="53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ynchronous TDM many slots are was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stical TDM allocates time slots dynamically based on dema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er scans input lines and collects data until frame fu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n line lower than aggregate rates of input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istical TDM Fram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1"/>
          <a:srcRect l="0" t="0" r="0" b="12310"/>
          <a:stretch/>
        </p:blipFill>
        <p:spPr>
          <a:xfrm>
            <a:off x="457200" y="1447920"/>
            <a:ext cx="8229600" cy="4779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D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ful bandwidth of medium exceeds required bandwidth of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ignal is modulated to a different carrier frequ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frequencies separated so signals do not overlap (guard band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broadcast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put data rate less than aggregate input r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ause problems during peak peri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ffer inp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eep buffer size to minimum to reduc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uffer Siz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d Dela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4258"/>
          <a:stretch/>
        </p:blipFill>
        <p:spPr>
          <a:xfrm>
            <a:off x="3627360" y="0"/>
            <a:ext cx="55166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symmetrical Digital Subscriber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subscriber an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currently installed twisted pair c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carry broader spectr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MHz or mo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Desig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mmet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eater capacity downstream than upstr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division 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st 25kHz for vo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in old telephone service (PO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echo cancellation or FDM to give two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FDM within ba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5.5k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SL Channel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15960"/>
          <a:stretch/>
        </p:blipFill>
        <p:spPr>
          <a:xfrm>
            <a:off x="2209680" y="1447920"/>
            <a:ext cx="4791240" cy="5267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screte Multito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M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carrier signals at different frequ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me bits on each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kHz sub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test signal and use subchannels with better signal to noise rat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56 downstream subchannels at 4kHz (60kbp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5.36M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airments bring this down to 1.5Mbps to 9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MT Transmitt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5" name="" descr=""/>
          <p:cNvPicPr/>
          <p:nvPr/>
        </p:nvPicPr>
        <p:blipFill>
          <a:blip r:embed="rId1"/>
          <a:srcRect l="0" t="0" r="0" b="12856"/>
          <a:stretch/>
        </p:blipFill>
        <p:spPr>
          <a:xfrm>
            <a:off x="838080" y="1371600"/>
            <a:ext cx="7391520" cy="52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DS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lin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y high data rate DS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S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Division Multiplex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58869"/>
          <a:stretch/>
        </p:blipFill>
        <p:spPr>
          <a:xfrm>
            <a:off x="1143000" y="1447920"/>
            <a:ext cx="6934320" cy="477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M Syste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6879"/>
          <a:stretch/>
        </p:blipFill>
        <p:spPr>
          <a:xfrm>
            <a:off x="3618000" y="76320"/>
            <a:ext cx="5526000" cy="670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 txBox="1"/>
          <p:nvPr/>
        </p:nvSpPr>
        <p:spPr>
          <a:xfrm>
            <a:off x="406440" y="15228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 Black"/>
              </a:rPr>
              <a:t>FDM of Three Voiceband Signals</a:t>
            </a:r>
            <a:endParaRPr b="0" lang="en-US" sz="35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rcRect l="0" t="0" r="0" b="9170"/>
          <a:stretch/>
        </p:blipFill>
        <p:spPr>
          <a:xfrm>
            <a:off x="2209680" y="1433520"/>
            <a:ext cx="4467240" cy="542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Carrier Syst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&amp;T (US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erarchy of FDM sche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 voice channels  (4kHz each) = 4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60kHz to 108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0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M of 5 group signals on carriers between 420kHz and 612 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ster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 super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ynchronous 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of medium exceeds data rate of digital signal to be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digital signals interleaved i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e at bit level of bloc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preassigned to sources and 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allocated even if no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slots do not have to be evenly distributed amongst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 Division 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46681" r="0" b="11220"/>
          <a:stretch/>
        </p:blipFill>
        <p:spPr>
          <a:xfrm>
            <a:off x="685800" y="1365120"/>
            <a:ext cx="6705720" cy="473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8T13:02:06Z</dcterms:created>
  <dc:creator>Adrian &amp; Wendy</dc:creator>
  <dc:description/>
  <dc:language>en-US</dc:language>
  <cp:lastModifiedBy>Adrian J Pullin</cp:lastModifiedBy>
  <dcterms:modified xsi:type="dcterms:W3CDTF">1999-10-13T14:41:13Z</dcterms:modified>
  <cp:revision>27</cp:revision>
  <dc:subject/>
  <dc:title>William Stallings Data and Computer Communications</dc:title>
</cp:coreProperties>
</file>